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F4B9-A5A7-4AB9-9871-2C454FFCAF9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简介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主要特色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95 /Win NT/ Win98/ Win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电路设计制版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一个集成的设计环境，包括了原理图设计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工具，集成的设计文档管理，支持通过网络进行工作组协同设计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rotel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SE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组成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置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原理图设计系统</a:t>
            </a:r>
            <a:endParaRPr b="1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是用于原理图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原理图的原理图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的零件库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印刷电路板设计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是用于电路板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电路板的电路板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封装的零件封装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Li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信号模拟仿真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78032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是用于原理图上进行信号模拟仿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ICE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3f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2880" y="249084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可编程逻辑设计系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3680" y="3070080"/>
            <a:ext cx="77803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集成于原理图设计系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21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内置编辑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2752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文本的文本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电子表格的电子表格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电路板设计步骤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电路原理图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路原理图的设计主要是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原理图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绘制一张电路原理图。在这一过程中，要充分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提供的各种原理图绘图工具、各种编辑功能，来实现目的，即得到一张正确、精美的电路原理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产生网络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表是电路原理图与印制电路板之间的一座桥梁。网络表可以从电路原理图中获得，也可从印制电路板中提取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印制电路板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印制电路板的设计主要是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印刷电路板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的强大功能来实现电路板的版面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18:43Z</dcterms:modified>
  <cp:revision>29</cp:revision>
  <dc:subject/>
  <dc:title>MC68HC908GP32IDK 在线编程开发系统</dc:title>
</cp:coreProperties>
</file>